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08A-DC71-44CA-BF93-968E3010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8F6-5551-4A45-9E09-90FA08B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D8A-3309-4E68-B90E-CE0E711F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3B5-33D9-45E2-BE50-239571BB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BDB-F1A3-4D03-A27C-07188BC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DAF-4A66-4FF1-BAE0-80470343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869-E59A-4AD4-AC25-0075E324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570-5B74-42AE-A709-A5C3CD2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136-588A-493E-B5A4-E675F04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FCE-4B41-451A-860F-3D2538A9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A88-99D6-4B44-92F1-0ED0CB5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D7C-D0FD-4AEF-B330-D9522D22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DD9-3118-48BE-8B3D-013B6091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836640"/>
            <a:ext cx="54007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พื้นที่ผิวและปริมาตรทรงกระบ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ครูผู้สอน ส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ไพบูลย์ ศรีบุญม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ลุ่มสาระการเรียนรู้คณิต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ื่อง พื้นที่ผิวและปริมาตรรูปทรงเรขาคณ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ชั้นมัธยมศึกษาปีที่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รงเรียนบ้านดอนขี้เหล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สำนักงานเขตพื้นที่การศึกษาอุดรธานี เขต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18900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ะป๋องใบหนึ่ง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มีเส้นผ่านศูนย์กลาง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ต้องการปิดกระดาษรอบข้างกระป๋องจะต้องใช้กระดาษกว้างยาวเท่าไร มีพื้นที่เท่า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77336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ิธีทำ      ความกว้างของกระดาษ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สูงของกระป๋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 1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5229360"/>
            <a:ext cx="835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ยาวของกระดาษ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ยาวรอบฐานทรงกระบอก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00280"/>
            <a:ext cx="1224000" cy="1150920"/>
          </a:xfrm>
          <a:prstGeom prst="can">
            <a:avLst>
              <a:gd name="adj" fmla="val 223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3645000"/>
            <a:ext cx="4319280" cy="936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3789360"/>
            <a:ext cx="43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450864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058920" y="4797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4112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3500280"/>
            <a:ext cx="122400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378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ระดา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3933720"/>
            <a:ext cx="107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กระป๋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71640" y="620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ที่นี้    รัศมีกระป๋อ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r )   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54936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83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14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2924280"/>
            <a:ext cx="43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126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155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19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198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565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 ความยาวของเส้นรอบวงกลม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636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213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500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32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5300640"/>
            <a:ext cx="11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18.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530064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393372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2276640"/>
            <a:ext cx="2556000" cy="1296720"/>
          </a:xfrm>
          <a:prstGeom prst="wedgeRoundRectCallout">
            <a:avLst>
              <a:gd name="adj1" fmla="val -66708"/>
              <a:gd name="adj2" fmla="val 273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นำเศ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ูณกั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ูณกั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3933720"/>
            <a:ext cx="2736720" cy="1150920"/>
          </a:xfrm>
          <a:prstGeom prst="cloudCallout">
            <a:avLst>
              <a:gd name="adj1" fmla="val -72680"/>
              <a:gd name="adj2" fmla="val -193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2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ารด้ว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35772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 ความยาวของกระดา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256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256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0000" y="112536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พื้นที่ผิวข้างทรงกระบอก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404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้า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40464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ของกระดาษที่ใช้ปิดข้างกระป๋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105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125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84464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 พื้นที่ของกระดาษที่ใช้ปิดข้างกระป๋อ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70028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198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17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0000" y="177336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133720"/>
            <a:ext cx="215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227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191628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4360" y="14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36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272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0" y="278136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0000" y="2781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72360" y="371628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515772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วามยาวของกระดา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15772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8.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515772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583160"/>
            <a:ext cx="30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ความกว้างของกระดา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458316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580536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ของกระดาษที่ใช้ปิดข้างกระป๋อ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58053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35640" y="5805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79280" y="18900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ะป๋องใบหนึ่งมีเส้นผ่านศูนย์กลา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                  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จงหาพื้นที่ผิวกระป๋อ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1557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ของกระป๋อ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r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55736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1628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14130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67280" y="234936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3280" y="220500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3068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299736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645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364500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35640" y="364500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364500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4292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7640" y="4292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643280" y="407664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716000" y="400536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03640" y="4005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6720" y="400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4292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76720" y="4292640"/>
            <a:ext cx="12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19640" y="4005360"/>
            <a:ext cx="14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0000" y="4005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011640" y="4076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94172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494172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494172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64000" y="4941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836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24360" y="494172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941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69228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3.14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5516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516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551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551664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4292640"/>
            <a:ext cx="2665440" cy="1728720"/>
          </a:xfrm>
          <a:prstGeom prst="cloudCallout">
            <a:avLst>
              <a:gd name="adj1" fmla="val 104379"/>
              <a:gd name="adj2" fmla="val 794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ูณกั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4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ละคูณกั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48360" y="3933720"/>
            <a:ext cx="2195640" cy="1150920"/>
          </a:xfrm>
          <a:prstGeom prst="cloudCallout">
            <a:avLst>
              <a:gd name="adj1" fmla="val -56148"/>
              <a:gd name="adj2" fmla="val 5303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บวกกั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95640" y="609300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6021360"/>
            <a:ext cx="10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946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80000" y="595008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5373720"/>
            <a:ext cx="1079640" cy="576360"/>
          </a:xfrm>
          <a:prstGeom prst="cloudCallout">
            <a:avLst>
              <a:gd name="adj1" fmla="val -207060"/>
              <a:gd name="adj2" fmla="val 3237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ู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6093000"/>
            <a:ext cx="29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ทรงกระป๋อ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132000" y="105264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263700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32000" y="105264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1700280"/>
            <a:ext cx="43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6360" y="234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716360" y="119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2852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8360" y="263700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26028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32000" y="3789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5080" y="3789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6720" y="443700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4508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789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3789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9640" y="5373720"/>
            <a:ext cx="35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ื่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รัศมีของ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6021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ความสู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3280" y="44370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ถังน้ำทรงกระบอกใบหนึ่ง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ต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                   มีเส้นผ่านศูนย์กลางของปากถัง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ตร จงหาปริมาตรถัง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1341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h ) =  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ต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0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เปลี่ยนเป็นหน่วย เมตร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.3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134136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98900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ปากถั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r )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2060640"/>
            <a:ext cx="7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184464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62560" y="2205000"/>
            <a:ext cx="7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95640" y="2565360"/>
            <a:ext cx="7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421000"/>
            <a:ext cx="5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3141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31417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3789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3789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3789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3789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42920" y="443700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  ปริมาตรของถั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443700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436572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328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364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92720" y="4437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40360" y="443700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328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16360" y="4797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2000" y="4076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4581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537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27640" y="537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537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5373720"/>
            <a:ext cx="5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24360" y="537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537372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5950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00720" y="587700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16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08720" y="587700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59500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ถั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35640" y="494172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789360"/>
            <a:ext cx="1944720" cy="1368360"/>
          </a:xfrm>
          <a:prstGeom prst="cloudCallout">
            <a:avLst>
              <a:gd name="adj1" fmla="val -121509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ยกกำลังส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50920" y="189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ถังเก็บน้ำทรงกระบอกวัดความยาวรอบปากถังภายนอก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3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มีความหน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ตร จะจุน้ำได้ท่า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126828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200" spc="-1" strike="noStrike" u="sng">
                <a:solidFill>
                  <a:srgbClr val="000000"/>
                </a:solidFill>
                <a:uFillTx/>
                <a:latin typeface="Angsana New"/>
              </a:rPr>
              <a:t>แนวคิด  </a:t>
            </a:r>
            <a:r>
              <a:rPr b="0" i="1" lang="th-TH" sz="3200" spc="-1" strike="noStrike">
                <a:solidFill>
                  <a:srgbClr val="000000"/>
                </a:solidFill>
                <a:latin typeface="Angsana New"/>
              </a:rPr>
              <a:t>จะต้องหาความยาวรัศมีภายในปากถัง 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91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0000"/>
                </a:solidFill>
                <a:uFillTx/>
                <a:latin typeface="Angsana New"/>
              </a:rPr>
              <a:t>วิธีทำ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ให้   รัศมีปากถังวัดถึงภายนอกยาว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ยาวรอบปากถังภายนอก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ยาวเส้นรอบวงกลม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5640" y="3068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299736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78120" y="299736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40360" y="29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7640" y="2997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56320" y="2924280"/>
            <a:ext cx="60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06920" y="292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19640" y="2997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364500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5744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5928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4800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393372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5128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072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4437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128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0072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90560" y="5084640"/>
            <a:ext cx="19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ัศมีภายในถั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51280" y="50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7640" y="508464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รัศมีภายน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508464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หน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51280" y="5587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27640" y="551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6000" y="6021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1280" y="609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5516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403280" y="26370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19640" y="263700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3280" y="2637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263700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1636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48360" y="328608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5164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357720"/>
            <a:ext cx="5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476280"/>
            <a:ext cx="22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วามสูงถังภายใ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87640" y="47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4762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ความสูงถั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00 </a:t>
            </a: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476280"/>
            <a:ext cx="16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หน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87640" y="98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64000" y="90792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11640" y="90792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764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148428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04000" y="335772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6400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9272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77080" y="350028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48360" y="306864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ngsana New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6360" y="414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16360" y="4941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8360" y="4149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0072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000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308720" y="4149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16720" y="4149720"/>
            <a:ext cx="5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149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64000" y="494172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8,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16720" y="494172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8360" y="5013360"/>
            <a:ext cx="13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ถังจะจุ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18900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ถังน้ำทรงกระบอกใบหนึ่งมีรัศมีฐาน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                    มีปริมาตร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60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บาศก์นิ้ว  จงหาความสูงของถัง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1280" y="1557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940360" y="155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90560" y="155736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48428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8720" y="155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2349360"/>
            <a:ext cx="165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ทนค่า ได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27640" y="220500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08720" y="22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40360" y="220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00720" y="220500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04000" y="2205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56360" y="155736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43640" y="155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292428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มาหารทั้งสองข้า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27640" y="2852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4720" y="2852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2852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27640" y="357336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57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27640" y="3860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84720" y="3573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00720" y="4221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8000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2000" y="4149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5013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ถังน้ำนี้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76720" y="501336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700360" y="189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ทรงกระบอกกลวง หรือวงแหว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58920" y="1700280"/>
            <a:ext cx="1152360" cy="1800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76360" y="1773360"/>
            <a:ext cx="719280" cy="2174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3498120" y="2342160"/>
            <a:ext cx="1649160" cy="7970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27640" y="2133720"/>
            <a:ext cx="215640" cy="12967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3933720"/>
            <a:ext cx="3384720" cy="7905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724360" y="4076640"/>
            <a:ext cx="1872000" cy="1443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4032000" y="2457000"/>
            <a:ext cx="431640" cy="6696360"/>
          </a:xfrm>
          <a:prstGeom prst="can">
            <a:avLst>
              <a:gd name="adj" fmla="val 6421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6000" y="566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413000"/>
            <a:ext cx="936720" cy="2879640"/>
          </a:xfrm>
          <a:prstGeom prst="can">
            <a:avLst>
              <a:gd name="adj" fmla="val 2500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1700280"/>
            <a:ext cx="1297080" cy="1800000"/>
          </a:xfrm>
          <a:prstGeom prst="donut">
            <a:avLst>
              <a:gd name="adj" fmla="val 18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2349360"/>
            <a:ext cx="2305080" cy="12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2519640" y="4329720"/>
            <a:ext cx="1008000" cy="10796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3946800">
            <a:off x="5260320" y="4182120"/>
            <a:ext cx="1028520" cy="963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11280" y="1341360"/>
            <a:ext cx="3600720" cy="12225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48000" y="1484280"/>
            <a:ext cx="1655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211640" y="162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56000" y="1268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21128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8800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6720" y="278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1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12000" y="256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2000" y="260280"/>
            <a:ext cx="2232000" cy="792360"/>
          </a:xfrm>
          <a:prstGeom prst="wedgeRoundRectCallout">
            <a:avLst>
              <a:gd name="adj1" fmla="val -113726"/>
              <a:gd name="adj2" fmla="val 10811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ภายใน 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84720" y="3357720"/>
            <a:ext cx="2664000" cy="792000"/>
          </a:xfrm>
          <a:prstGeom prst="wedgeRoundRectCallout">
            <a:avLst>
              <a:gd name="adj1" fmla="val -86828"/>
              <a:gd name="adj2" fmla="val -10992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ภายนอก 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11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1844640"/>
            <a:ext cx="1512720" cy="1008000"/>
          </a:xfrm>
          <a:prstGeom prst="wedgeRoundRectCallout">
            <a:avLst>
              <a:gd name="adj1" fmla="val 65842"/>
              <a:gd name="adj2" fmla="val -2700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50920" y="162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195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5280" y="260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ทรงกระบอกกลวง หรือวงแหว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443700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กลว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43700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443700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492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940360" y="4437000"/>
            <a:ext cx="1008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5516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กลว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5516640"/>
            <a:ext cx="122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59280" y="551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19640" y="551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0000" y="5516640"/>
            <a:ext cx="107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9" dur="indefinite" restart="never" nodeType="tmRoot">
          <p:childTnLst>
            <p:seq>
              <p:cTn id="2650" dur="indefinite" nodeType="mainSeq">
                <p:childTnLst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539640" y="836640"/>
            <a:ext cx="71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ื้นที่หน้าตัดทั้งสอ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2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–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ื้นที่ผิวด้านนอก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ื้นที่ผิวด้านภายใ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พื้นที่ผิววงแหว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2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–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) + 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  + 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6920" y="18900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วงแห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3816360" y="1663560"/>
            <a:ext cx="2232000" cy="6337440"/>
          </a:xfrm>
          <a:prstGeom prst="can">
            <a:avLst>
              <a:gd name="adj" fmla="val 282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68360" y="4292640"/>
            <a:ext cx="648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877080" y="4292640"/>
            <a:ext cx="647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27280" y="429264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27280" y="530064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410560" y="47242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62728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62692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843280" y="45086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3200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572000" y="3068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859280" y="3860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32360" y="5084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932360" y="5805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27280" y="3357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335772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2728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36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9280" y="3573360"/>
            <a:ext cx="1368360" cy="1800360"/>
          </a:xfrm>
          <a:prstGeom prst="wedgeRoundRectCallout">
            <a:avLst>
              <a:gd name="adj1" fmla="val 113342"/>
              <a:gd name="adj2" fmla="val 32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ภายใน 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116000" y="6066000"/>
            <a:ext cx="2664000" cy="792000"/>
          </a:xfrm>
          <a:prstGeom prst="wedgeRoundRectCallout">
            <a:avLst>
              <a:gd name="adj1" fmla="val 22171"/>
              <a:gd name="adj2" fmla="val -1972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ัศมีภายนอก 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31280" y="2349360"/>
            <a:ext cx="1512720" cy="1008360"/>
          </a:xfrm>
          <a:prstGeom prst="wedgeRoundRectCallout">
            <a:avLst>
              <a:gd name="adj1" fmla="val -191134"/>
              <a:gd name="adj2" fmla="val 418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 rot="16200000">
            <a:off x="3635280" y="-675000"/>
            <a:ext cx="1081080" cy="5113440"/>
          </a:xfrm>
          <a:prstGeom prst="can">
            <a:avLst>
              <a:gd name="adj" fmla="val 13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3168360" y="-1287720"/>
            <a:ext cx="2232360" cy="6337440"/>
          </a:xfrm>
          <a:prstGeom prst="can">
            <a:avLst>
              <a:gd name="adj" fmla="val 28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3240000" y="1520640"/>
            <a:ext cx="2232000" cy="6337440"/>
          </a:xfrm>
          <a:prstGeom prst="can">
            <a:avLst>
              <a:gd name="adj" fmla="val 2827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3573360"/>
            <a:ext cx="1800360" cy="2232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4149720"/>
            <a:ext cx="7189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27640" y="4149720"/>
            <a:ext cx="719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0920" y="4149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5229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24360" y="3573360"/>
            <a:ext cx="1800360" cy="2232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04000" y="0"/>
            <a:ext cx="2158920" cy="647640"/>
          </a:xfrm>
          <a:prstGeom prst="wedgeRoundRectCallout">
            <a:avLst>
              <a:gd name="adj1" fmla="val -106689"/>
              <a:gd name="adj2" fmla="val 176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ด้านใ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9280" y="6093000"/>
            <a:ext cx="1943280" cy="576000"/>
          </a:xfrm>
          <a:prstGeom prst="wedgeRoundRectCallout">
            <a:avLst>
              <a:gd name="adj1" fmla="val 34069"/>
              <a:gd name="adj2" fmla="val -148620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พื้นที่หน้า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979640" y="5444640"/>
            <a:ext cx="460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36000" y="2852640"/>
            <a:ext cx="1584000" cy="1008000"/>
          </a:xfrm>
          <a:prstGeom prst="wedgeRoundRectCallout">
            <a:avLst>
              <a:gd name="adj1" fmla="val -159120"/>
              <a:gd name="adj2" fmla="val 51416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ด้านน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24000" y="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งแหวนเหล็กอันหนึ่งมีเส้นผ่านศูนย์กลางภายนอกและภายใน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แล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.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ตามลำดับ    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จงหาปริมาตรวงแหวน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87280" y="170028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ปริมาตรวงแหว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 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– 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4000" y="170028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2492280"/>
            <a:ext cx="17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ัศมีภายนอ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2436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40360" y="2421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ภายน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45200" y="270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2436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2764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27640" y="314172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8000" y="4076640"/>
            <a:ext cx="17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ัศมีภายใ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40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4005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ภายใ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45200" y="4292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24360" y="465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443700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47260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24360" y="5229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27640" y="522936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1" dur="indefinite" restart="never" nodeType="tmRoot">
          <p:childTnLst>
            <p:seq>
              <p:cTn id="2802" dur="indefinite" nodeType="mainSeq">
                <p:childTnLst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0" fill="hold">
                      <p:stCondLst>
                        <p:cond delay="indefinite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42920" y="29242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ได้ ปริมาตรวงแหว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16000" y="26028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82920" y="292572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57840" y="292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80000" y="292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7280" y="292572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– (0.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73480" y="2925720"/>
            <a:ext cx="6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309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229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357336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2920" y="357336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7528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3892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99280" y="42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435640" y="4221000"/>
            <a:ext cx="5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83280" y="357336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2 – 0.7)(2+ 0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51280" y="42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82920" y="422100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7528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5128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82920" y="4797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8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91280" y="479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56000" y="551664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.204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51280" y="551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24360" y="551664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87280" y="551664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วงแห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8000" y="33336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ภายนอ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61080" y="33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364000" y="333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5280" y="10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ภายใ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61080" y="98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64000" y="981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198900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ปริมาตรวงแหว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 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– 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9" dur="indefinite" restart="never" nodeType="tmRoot">
          <p:childTnLst>
            <p:seq>
              <p:cTn id="2920" dur="indefinite" nodeType="mainSeq">
                <p:childTnLst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00" y="1989000"/>
            <a:ext cx="1224000" cy="2014560"/>
          </a:xfrm>
          <a:prstGeom prst="can">
            <a:avLst>
              <a:gd name="adj" fmla="val 22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573360"/>
            <a:ext cx="122400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444360" y="2132640"/>
            <a:ext cx="1223640" cy="2232000"/>
          </a:xfrm>
          <a:prstGeom prst="can">
            <a:avLst>
              <a:gd name="adj" fmla="val 19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544360" y="3032640"/>
            <a:ext cx="1223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1989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ก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31640" y="2492280"/>
            <a:ext cx="158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2492280"/>
            <a:ext cx="18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989000"/>
            <a:ext cx="122400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344360" y="3033000"/>
            <a:ext cx="1223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2276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341360"/>
            <a:ext cx="21607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้าตัด หรือ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4581360"/>
            <a:ext cx="2087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น้าตัด หรือ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92000" y="1628640"/>
            <a:ext cx="11509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1700280"/>
            <a:ext cx="1440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492000" y="3860640"/>
            <a:ext cx="358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35640" y="3645000"/>
            <a:ext cx="649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213000"/>
            <a:ext cx="1081080" cy="1810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132000" y="3284280"/>
            <a:ext cx="1152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48360" y="3213000"/>
            <a:ext cx="187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5589720"/>
            <a:ext cx="2016000" cy="1556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รงกระบอกตร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3336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3789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5013360"/>
            <a:ext cx="1150920" cy="1810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050920" y="378900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321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3500280"/>
            <a:ext cx="554544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404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ูปเรขาคณิตสามมิติที่มีฐานเป็นรูปวงกลมที่เท่ากันทุกประการและอยู่บนระนาบที่ขนานกัน และเมื่อตัดรูปเรขาคณิตสามมิตินั้นด้วยระนาบที่ขนานกับฐานแล้วจะได้หน้าตัดเป็นวงกลมที่เท่ากันทุประการกับฐานเสมอเรียก   รูปเรขาคณิตสามมิตินั้นว่า “ทรงกระบอ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328464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486900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328464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6028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ารวาด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328464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170028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429000"/>
            <a:ext cx="2664000" cy="2158920"/>
          </a:xfrm>
          <a:prstGeom prst="wedgeRoundRectCallout">
            <a:avLst>
              <a:gd name="adj1" fmla="val -83550"/>
              <a:gd name="adj2" fmla="val -46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ละวาด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ี่วาดในแนววงร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ตรง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ขนาดเท่า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191628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191628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620640"/>
            <a:ext cx="2664000" cy="1152720"/>
          </a:xfrm>
          <a:prstGeom prst="wedgeRoundRectCallout">
            <a:avLst>
              <a:gd name="adj1" fmla="val -104291"/>
              <a:gd name="adj2" fmla="val 585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ริ่มวาด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ี่วาดในแนววงร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34936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393372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34936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83664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422100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492280"/>
            <a:ext cx="4319280" cy="165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60280"/>
            <a:ext cx="2808360" cy="503280"/>
          </a:xfrm>
          <a:prstGeom prst="wedgeRectCallout">
            <a:avLst>
              <a:gd name="adj1" fmla="val -73458"/>
              <a:gd name="adj2" fmla="val 11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ลี่ส่วนของหน้าตัดอ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373720"/>
            <a:ext cx="2089440" cy="503280"/>
          </a:xfrm>
          <a:prstGeom prst="wedgeRectCallout">
            <a:avLst>
              <a:gd name="adj1" fmla="val 73402"/>
              <a:gd name="adj2" fmla="val -1973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ลี่หน้าตัดอ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581360"/>
            <a:ext cx="2592360" cy="720720"/>
          </a:xfrm>
          <a:prstGeom prst="wedgeRoundRectCallout">
            <a:avLst>
              <a:gd name="adj1" fmla="val -51467"/>
              <a:gd name="adj2" fmla="val -103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ลี่ส่วนข้างออก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4724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72428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314172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สู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48436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907920"/>
            <a:ext cx="17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ฐ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26828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141120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341360"/>
            <a:ext cx="165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78000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18446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227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234936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93372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34936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83664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22100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2492280"/>
            <a:ext cx="4319280" cy="165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472428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314172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ความสู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8436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126828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1411200"/>
            <a:ext cx="0" cy="505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78000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184464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227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724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189000"/>
            <a:ext cx="3527280" cy="1584360"/>
          </a:xfrm>
          <a:prstGeom prst="wedgeRoundRectCallout">
            <a:avLst>
              <a:gd name="adj1" fmla="val -67236"/>
              <a:gd name="adj2" fmla="val 19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รือพื้นที่หน้า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ป็นพื้นที่รูปวงกล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229360"/>
            <a:ext cx="3384720" cy="1439640"/>
          </a:xfrm>
          <a:prstGeom prst="wedgeRoundRectCallout">
            <a:avLst>
              <a:gd name="adj1" fmla="val 33069"/>
              <a:gd name="adj2" fmla="val -873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รือพื้นที่หน้า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ป็นพื้นที่รูปวงกล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4653000"/>
            <a:ext cx="3600720" cy="1584360"/>
          </a:xfrm>
          <a:prstGeom prst="wedgeRoundRectCallout">
            <a:avLst>
              <a:gd name="adj1" fmla="val -20106"/>
              <a:gd name="adj2" fmla="val -7935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ลี่ออกมา    เทียบได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ูปสี่เหลี่ยมผืนผ้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×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6560" y="112536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270972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6560" y="1125360"/>
            <a:ext cx="1224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105408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1270080"/>
            <a:ext cx="4319640" cy="165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27808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4920" y="414972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องทรงกระบอ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414972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414972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ทั้งส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292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479736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479736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1773360"/>
            <a:ext cx="43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0920" y="1269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9973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340000" y="32860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2860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99280" y="285444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278136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0464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60" y="414972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5516640"/>
            <a:ext cx="35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ื่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รัศมีของ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6021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ความสู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797360"/>
            <a:ext cx="29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60360" y="1890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560" y="4724280"/>
            <a:ext cx="74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8900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8900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4920" y="4724280"/>
            <a:ext cx="26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4160" y="4724280"/>
            <a:ext cx="11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836640"/>
            <a:ext cx="309564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349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349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ทั้งสอ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63560" y="2349360"/>
            <a:ext cx="15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205000"/>
            <a:ext cx="792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2276640"/>
            <a:ext cx="792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573360"/>
            <a:ext cx="5111640" cy="935280"/>
          </a:xfrm>
          <a:prstGeom prst="wedgeEllipseCallout">
            <a:avLst>
              <a:gd name="adj1" fmla="val -53884"/>
              <a:gd name="adj2" fmla="val 75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รณีมีฐานเพีย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ชิ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96360" y="260280"/>
            <a:ext cx="792000" cy="115272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84720" y="1052280"/>
            <a:ext cx="180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1125360"/>
            <a:ext cx="79200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6360" y="260280"/>
            <a:ext cx="79200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588000" y="404640"/>
            <a:ext cx="1297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524720" y="126828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7667640" y="4437000"/>
            <a:ext cx="792000" cy="115272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5300640"/>
            <a:ext cx="79200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08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6:43:05Z</dcterms:created>
  <dc:creator>boy</dc:creator>
  <dc:description/>
  <dc:language>en-US</dc:language>
  <cp:lastModifiedBy>IT_N</cp:lastModifiedBy>
  <dcterms:modified xsi:type="dcterms:W3CDTF">2009-03-15T01:25:14Z</dcterms:modified>
  <cp:revision>24</cp:revision>
  <dc:subject/>
  <dc:title>ทรงกระบอก</dc:title>
</cp:coreProperties>
</file>